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152-C77D-4DA7-85D3-8AEC83E8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4B8-77BC-4E51-BE51-75A2CE7C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52E-1923-4185-887F-3AEB4447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DA1-7A37-43BA-98F0-AF5AF656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3C34-1162-4F75-AC26-CE408ED4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FFA9-68B0-4687-A65B-9BF7540E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75ED-DA3C-48D4-93A8-010EA0BA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0CC6-8534-46A2-8C7C-79987496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C61F-B807-41C4-B59F-383840A2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F115-7B8F-4D75-A6C6-359F4ADC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10FB-AA83-4AC3-B2D4-C1EDD032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328-9FB0-4713-B4D8-3C606669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30E6-C8A5-40D1-B073-2C03A201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BBFA-F98F-49B0-9192-B4A42976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5F4D-3FEA-4BB4-AD03-15BB6D36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2A22-E99F-4913-9F2E-877BC6D5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5675-EBA4-41A6-8930-5797C11B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049-2BA9-4C27-8080-1AE4C913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8F1-D0FF-45A6-A8E8-C958CDB1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5A2-6B93-4253-A877-0137D15B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DAC-EA93-470A-93B6-22834F95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552-384D-4309-8629-26FEE0A7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94F-50B7-4D2B-AB41-100A1B65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74A4-7696-4E33-9226-44E63A2A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7466-A065-46F3-B4EE-F2996B5DFEC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1CAC-77FE-4B2D-9136-239C19D2F71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iology.iastate.edu/Courses/202L/New%20Site%20S05/27AngioReprod/flwrstrc/Daffodilflwr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giosperms – Flowering Pla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lowers – contain ovaries, which become 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frui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ids in pollin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ttract pollinato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352680" y="3200400"/>
            <a:ext cx="2549520" cy="287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019920" y="3255840"/>
            <a:ext cx="31240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s of Angiosper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Herbaceous </a:t>
            </a: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vs. </a:t>
            </a: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Woody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362320"/>
            <a:ext cx="2895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Don’t produce woo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Ex: dandelions    sunflow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2279880" cy="3124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38680" y="2286000"/>
            <a:ext cx="3124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re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hrub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Vin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Ex: roses, iv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257800" y="44578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s of Angiosper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Annual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one year life cycle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Biennial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two years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Perennial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many years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943600" y="11430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5029200" y="2819520"/>
            <a:ext cx="2530440" cy="2530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6805440" y="3600360"/>
            <a:ext cx="23385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s of Angiosper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47920" y="914040"/>
            <a:ext cx="228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co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85800" y="142884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181480" y="99072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onoco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nocot or Dico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762120"/>
            <a:ext cx="2525760" cy="289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219320" y="4191120"/>
            <a:ext cx="2738160" cy="205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638680" y="762120"/>
            <a:ext cx="2419560" cy="3024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5576760" y="4114800"/>
            <a:ext cx="1865520" cy="2057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3520" y="3657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MONOCO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MONOCO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6172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DICO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6172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DICO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0:33:15Z</dcterms:created>
  <dc:creator>Daniel Krueger</dc:creator>
  <dc:description/>
  <dc:language>en-US</dc:language>
  <cp:lastModifiedBy>NPSD</cp:lastModifiedBy>
  <dcterms:modified xsi:type="dcterms:W3CDTF">2008-07-29T15:38:15Z</dcterms:modified>
  <cp:revision>4</cp:revision>
  <dc:subject/>
  <dc:title>Angiosperms</dc:title>
</cp:coreProperties>
</file>